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25A1-5397-4BDC-BB7B-82A64333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E1A-7064-45C7-8AC0-A7033AC7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3ED-F0EC-479E-8BCC-C87CE666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824-9356-42D8-9158-C4118EA9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9712-C2ED-447F-B72D-DE3CF4B7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E65-1AC8-46B7-8131-7A772E1F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A31-5A21-417F-96CF-9B3CA47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A2DB-765C-4741-9A46-01E50E10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5415-811E-431E-B8AA-70F61B95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414-FBF1-4597-BC1D-4A4251B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F6BA-D9F7-4012-94A3-E31C93C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64F-7DE3-4CBA-BBC6-9C7276D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DE1E-E03C-420C-AA1A-9F5DA633B5F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.office.microsoft.com/r/rlidDRMMoreInfoLicenseReq?clid=2052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467840" cy="2210040"/>
          </a:xfrm>
          <a:prstGeom prst="rect">
            <a:avLst/>
          </a:prstGeom>
          <a:solidFill>
            <a:srgbClr val="faf8ed"/>
          </a:solidFill>
          <a:ln w="3240">
            <a:solidFill>
              <a:srgbClr val="c0c0c0"/>
            </a:solidFill>
            <a:miter/>
          </a:ln>
        </p:spPr>
        <p:txBody>
          <a:bodyPr lIns="54864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Microsoft Office 2003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Internet Explorer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宋体"/>
              </a:rPr>
              <a:t>的权限管理加载项”阅读的演示文稿副本。单击“视图”菜单的“幻灯片放映”可以打开此链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doNotEnter" descr=""/>
          <p:cNvPicPr/>
          <p:nvPr/>
        </p:nvPicPr>
        <p:blipFill>
          <a:blip r:embed="rId1"/>
          <a:stretch/>
        </p:blipFill>
        <p:spPr>
          <a:xfrm>
            <a:off x="314280" y="314280"/>
            <a:ext cx="29520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09480" y="1752480"/>
            <a:ext cx="693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ea typeface="宋体"/>
                <a:hlinkClick r:id="rId2"/>
              </a:rPr>
              <a:t>了解关于受限权限文档的更多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8:12:01Z</dcterms:created>
  <dc:creator/>
  <dc:description/>
  <dc:language>en-US</dc:language>
  <cp:lastModifiedBy/>
  <dcterms:modified xsi:type="dcterms:W3CDTF">2003-04-10T10:54:53Z</dcterms:modified>
  <cp:revision>82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30526548</vt:r8>
  </property>
</Properties>
</file>